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3E834-1F04-4375-9889-1F7C6DD33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19F2-3226-45DA-A93B-A5B56EAF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77AD2-B370-4D01-A39F-351E3CC15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50141-2F51-4D29-9B33-C294E8432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A789B-4802-4DDA-A21B-7445D9EDB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57C4E-9EEE-486D-A67E-1BBCE9CA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F28F8-A8C2-46FA-B0E3-5728FAE40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5B790-5023-49F9-8537-80CC223FC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650D-5519-4940-9E98-15C728D0A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EFF08-C672-4892-8224-F78AD6210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0386E-FA83-4A16-A561-152B4E0C1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F92EA-F511-4F2A-914E-3CFC19474D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5812-031C-44FA-B54C-ECAADC1B73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0" y="0"/>
            <a:ext cx="9144000" cy="72162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1: Slide One (oral presenta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speak in German about your family without using  your notes.  (Extemporaneous speech).</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are not allowed to use prompts, you may keep the level of expression and sentence structure at a more simplified level for the oral portion of your project.  You have these people on your labelled presentation and must point to the people in your family picture (real or fictitious) and tell the class how they are related to you  (use </a:t>
            </a:r>
            <a:r>
              <a:rPr b="1" lang="en-US" sz="1200" spc="-1" strike="noStrike">
                <a:solidFill>
                  <a:srgbClr val="000000"/>
                </a:solidFill>
                <a:latin typeface="Arial"/>
              </a:rPr>
              <a:t>mein/meine)</a:t>
            </a:r>
            <a:r>
              <a:rPr b="0" lang="en-US" sz="1200" spc="-1" strike="noStrike">
                <a:solidFill>
                  <a:srgbClr val="000000"/>
                </a:solidFill>
                <a:latin typeface="Arial"/>
              </a:rPr>
              <a:t>, what their name is and where they are on the picture (oben, unten…). Include the following family members: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ICTURE OF SELF</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abe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lso need to include 3 from this lis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vorne/ob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hinten/unte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in der Mitt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rechts</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ks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e from this list.  These are all prepositions which need DATIVE!!!!</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üb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vo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t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hinter</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zwisch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0" y="0"/>
            <a:ext cx="9144000" cy="730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goal #2: Slide 2 (Written portio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 tell me a little about yourself and your family.</a:t>
            </a:r>
            <a:r>
              <a:rPr b="0" lang="en-US" sz="1200" spc="-1" strike="noStrike">
                <a:solidFill>
                  <a:srgbClr val="000000"/>
                </a:solidFill>
                <a:latin typeface="Arial"/>
              </a:rPr>
              <a:t>  Pretend that you are looking at the picture from slide one.Tell me about yourself and your family.  You must describe the relationship of your family members and their names.  Tell me where some of your family members are.  Use “vor, hinter, neben, zwischen”.  You need to include an adjective in the positive “gern or gut”, a comparative “lieber or besser” and a superlative “am liebsten or am besten”and a form of “UNSER” (our). You need to tell me your name, age, where you are from, a free time activity, favorite subject in school.  The more information you add, the better your grad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ten requirements:</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Mo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ister or br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Cousin</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mother</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randfather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unt or uncle</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gut/gern</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lieber/besser</a:t>
            </a:r>
            <a:r>
              <a:rPr b="1" lang="en-US" sz="1200" spc="-1" strike="noStrike">
                <a:solidFill>
                  <a:srgbClr val="000000"/>
                </a:solidFill>
                <a:latin typeface="Arial"/>
              </a:rPr>
              <a:t>	</a:t>
            </a:r>
            <a:r>
              <a:rPr b="1" lang="en-US" sz="1200" spc="-1" strike="noStrike">
                <a:solidFill>
                  <a:srgbClr val="000000"/>
                </a:solidFill>
                <a:latin typeface="Wingdings"/>
                <a:ea typeface="Wingdings"/>
              </a:rPr>
              <a:t></a:t>
            </a:r>
            <a:r>
              <a:rPr b="1" lang="en-US" sz="1200" spc="-1" strike="noStrike">
                <a:solidFill>
                  <a:srgbClr val="000000"/>
                </a:solidFill>
                <a:latin typeface="Arial"/>
              </a:rPr>
              <a:t> am liebsten/ am best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s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r/üb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nter/unter</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ben</a:t>
            </a:r>
            <a:endParaRPr b="0" lang="en-US" sz="1200" spc="-1" strike="noStrike">
              <a:solidFill>
                <a:srgbClr val="000000"/>
              </a:solidFill>
              <a:latin typeface="Arial"/>
            </a:endParaRPr>
          </a:p>
          <a:p>
            <a:pPr>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wische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formatio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name</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age (numbers written out)</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free time activity</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subject in school</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Arial"/>
              </a:rPr>
              <a:t> </a:t>
            </a:r>
            <a:r>
              <a:rPr b="1" lang="en-US" sz="1200" spc="-1" strike="noStrike">
                <a:solidFill>
                  <a:srgbClr val="000000"/>
                </a:solidFill>
                <a:latin typeface="Arial"/>
              </a:rPr>
              <a:t>where you are from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6T18:47:32Z</dcterms:created>
  <dc:creator>udsd</dc:creator>
  <dc:description/>
  <dc:language>en-US</dc:language>
  <cp:lastModifiedBy>tmsadmin</cp:lastModifiedBy>
  <dcterms:modified xsi:type="dcterms:W3CDTF">2014-02-27T16:50:00Z</dcterms:modified>
  <cp:revision>14</cp:revision>
  <dc:subject/>
  <dc:title>Slide 1</dc:title>
</cp:coreProperties>
</file>